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ED3A-B587-41CB-8778-5FF6A5706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6253-6DBC-416F-9F2F-85A8F059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99D7-068C-40C1-893E-80AE58476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3A77-EAAD-4CC0-B1A3-78FB369AD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D48B-C4FA-4C34-959A-76B6A9AA3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719F-E8E5-43E4-A893-E8A18986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5508-BF12-4EFD-B514-FB2823ACE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ACD4-A4F9-4C3A-947C-84306811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889F-72A8-4CC4-AF9E-959046942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EDFC-247E-45F3-99A7-214CD3C6A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918-6C33-4E29-9AA8-D2486A425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067F-E052-4774-ACC8-5DB7D493F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E2F-5C39-4805-B81C-E9AF12D426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7A23-B953-4FE0-98C6-EFA85A5D3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68A6-192A-4018-A96B-30D12CDF8E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CFB7-379B-4775-8D68-025F666E05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BBC3-D889-40B3-8793-A64F1F6E9C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B2E-3D00-4429-9514-D50888180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255-15D8-4393-B90E-D13F8A07D5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6320" cy="4119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bin’s Evernote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9176-9709-4CD4-A91F-9187020A5A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CEAF-62CE-46FC-BAB6-4C56D6649F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07920" y="1139760"/>
            <a:ext cx="740736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an work on paper, or explore Prezi or Ever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ould  explore CLIPS or e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ould also explore  or the camp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B84-9F32-499D-B7DE-D79FBF017C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gratulations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You have now completed 2 ½ out of 4 days of Math Campp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od  night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BE46-8C44-460B-A4CF-D72AF2F204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EB6F-D7F8-46DC-82A5-3527EDE2DF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39E-95B8-4F2F-9ECC-62FB757BEA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4E8-825D-477A-906C-92E0D4ACE9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2A2-2394-411E-9371-2F4BD81D46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                           </a:t>
            </a:r>
            <a:r>
              <a:rPr b="0" lang="en-CA" sz="4400" spc="-1" strike="noStrike">
                <a:solidFill>
                  <a:srgbClr val="2b5ca9"/>
                </a:solidFill>
                <a:latin typeface="Wingdings"/>
                <a:ea typeface="Wingdings"/>
              </a:rPr>
              <a:t>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112-199D-485D-B0DE-FEBAFEC909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Think of a  Math course. What might a portfolio for this cour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3FD-1B0F-42A9-B40D-BCD7162F5D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Could a “fractions” portfolio support integration of fraction concepts throughout a course?  What do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B67-E0F1-44FA-81E5-3A74312CD1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BA86-18D5-456C-974D-ECFAC36641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49D3-ADD6-495A-8ACB-3FA9FD75FE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220F-41AC-4DF1-A419-FC046B7C64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22:32:48Z</dcterms:modified>
  <cp:revision>42</cp:revision>
  <dc:subject/>
  <dc:title>&lt;Title&gt;</dc:title>
</cp:coreProperties>
</file>